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8E3DB-BAF0-4BB5-AB6C-1B5916EBB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7D208-4EF2-41A1-896F-F11277C0F9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60A44-F5C3-47A6-B3D0-E1D6AF61D4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E83BD-98DF-49F0-AD5B-51004FE492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65579-43D2-4BCC-87BB-78A4F1905A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3EB76-B1B6-4EFF-AF72-E8BF07C181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F0BB3-7A04-4F30-B1E4-496CFD4833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31616-1A44-4C9B-ADBA-1C9B20DE8D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6C979-74A8-46EB-BCD5-3251F1D1AA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F21D5-6831-4507-A97C-AE838216F1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C4B18-08BF-401C-9C1B-39AACDEFC2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18CDA-226B-4078-AF0D-642267CF92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001F9-49F4-4307-83AB-5BE9FB7416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E1A79-D03C-433F-A392-1158189E80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AA2AD-023F-4876-BA25-5EFF63516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7F0DA-D1DA-475C-AD8E-EEF5F4A71B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857BD-9B5F-4A2D-9B69-73668253FB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C9A09-3A85-453E-9DDC-33BC1CAB98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3F80D-0BF3-49A9-8357-543CC3F077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16FAD-9E28-4ADE-B53A-5FAD8DA0FC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168F-9047-49E5-8961-7DF4B548C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A1E9B-DD9A-45E5-82AB-5961B8C6C9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57AD2-2B16-49A2-843F-8005F4F35E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DCF3B-AC71-4D53-8E9F-6ECE094AFC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DC38A-B15B-48C2-BA37-F79C270DE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7522F-322A-4F52-B9ED-1BD7A81AD5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A56-61BA-4A1F-8B69-4F2AA57E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5FE-0C29-4187-8B12-CBE98BCD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C51-2E56-44DE-8629-55CC1B9E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806-EA04-4F0C-8025-6E94B34A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6410-0DA8-49B5-841A-94F817EB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877A-C78C-49D5-9E7D-4D04059E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0907-DC7D-4F99-BB8D-8F63ECD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0D8D-E0F1-49C5-A1AF-F5220A9F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F846-A406-43FF-A497-81FB7F90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21A5-B1E3-406C-BFD8-492682F2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2EE6-C3F8-4508-A1F2-6A6E978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A90-E4FE-4A14-957E-3517DAD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2CA5-1E34-4F55-A7A0-BABBAC6F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E5F7-B5D8-4C04-9D47-DD1EEB8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7E42-C642-47E6-BA19-D5DCB675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E3EF-B3D6-415E-AE20-6B242AE0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BF34-E52F-44EC-A613-1BB6172A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1C1-C905-43AA-B650-3A6BE1EB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20F-7162-4BD6-9020-CD02DA32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5D5-1B45-43A4-91A9-709A2DA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61F-0ECE-48B6-A6BB-EF4E9C9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896-3D96-48BF-95AF-B71F9F10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582-219C-4D36-A074-A1D0DDC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ABE-EFF5-4902-9E08-8A0360B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FE783A-501B-45C4-9FD8-D29C9CA88DC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CE5FC-DFF3-441A-B091-68470013AC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0000" y="896760"/>
            <a:ext cx="6480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Чудо – птица,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лый хвост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Прилетела  в стаю звёзд</a:t>
            </a:r>
            <a:br>
              <a:rPr sz="44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2989440" y="3860640"/>
            <a:ext cx="2885760" cy="26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Циолковский Константин Эдуардови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160720" y="1619280"/>
            <a:ext cx="504036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олёв Сергей Павлови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вый космический спутни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кета Сергея Павловича Королёва, в которой полетел Юрий Гагарин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26920" y="1879560"/>
            <a:ext cx="777744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Юрий Алексеевич Гагарин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й космонав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340000" y="1601640"/>
            <a:ext cx="4357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000" y="-62280"/>
            <a:ext cx="8510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нщины – космонавты Валентина                      Светлан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решкова                     Савицка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50840" y="1700280"/>
            <a:ext cx="3700440" cy="489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8894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ояние невесом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да космонавт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50920" y="1349280"/>
            <a:ext cx="864216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Не месяц, не луна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не планета, не звезда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о небу летает, 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амолеты обгоняе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Объект 5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2526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Энгельс – место приземления Юрия Гагар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250920" y="1676520"/>
            <a:ext cx="864216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-184680"/>
            <a:ext cx="8510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632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треча Юрия Гагарина в Москве после полё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ллея космонавт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0" y="1557360"/>
            <a:ext cx="4356000" cy="504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572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ощадь Гагари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482616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Гагарин  - Дом – музей Юрия Гагар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424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л. Академика Королё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6760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По тёмному небу рассыпан горошек</a:t>
            </a:r>
            <a:br>
              <a:rPr sz="32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   Цветной карамели из сахарной крошки</a:t>
            </a:r>
            <a:br>
              <a:rPr sz="32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   И только тогда, когда утро настанет,</a:t>
            </a:r>
            <a:br>
              <a:rPr sz="32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   Вся карамель та внезапно растает. 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2627280" y="3500280"/>
            <a:ext cx="417672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6160" y="938160"/>
            <a:ext cx="77724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 космосе сквозь чащу лет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Ледяной летит объект.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Хвост его  - полоска света,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А зовут объект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409752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кусственные спутники  и межпланетные станц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370836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4859280" y="1484280"/>
            <a:ext cx="404820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tretch/>
        </p:blipFill>
        <p:spPr>
          <a:xfrm>
            <a:off x="0" y="4292640"/>
            <a:ext cx="4067280" cy="256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5"/>
          <a:stretch/>
        </p:blipFill>
        <p:spPr>
          <a:xfrm>
            <a:off x="5076720" y="4292640"/>
            <a:ext cx="3888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лескопы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1413000"/>
            <a:ext cx="4788000" cy="525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3888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лнечная система: Меркурий, Венера, Земля, Марс, Юпитер, Сатурн, Уран, Нептун, Плутон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77880" y="1703520"/>
            <a:ext cx="7740720" cy="46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0:20:59Z</dcterms:created>
  <dc:creator>123</dc:creator>
  <dc:description/>
  <dc:language>en-US</dc:language>
  <cp:lastModifiedBy>User</cp:lastModifiedBy>
  <dcterms:modified xsi:type="dcterms:W3CDTF">2003-12-31T18:59:04Z</dcterms:modified>
  <cp:revision>9</cp:revision>
  <dc:subject/>
  <dc:title>ДЕНЬ КОСМОНАВТИКИ</dc:title>
</cp:coreProperties>
</file>